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4C5-D18A-4514-BED8-DAA8159E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C08-B6C6-4C7B-937C-483DB517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EF3-F57A-42A6-85B2-AF8E3DB2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D12-B358-4E61-99AB-35DBFF81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687-4BC1-4E1F-8FD9-4EBC1CE7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B53-5065-46F7-ADF7-99FBA918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03E-1039-4D35-91B3-4D1B0993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159-A699-467E-94B6-7DBC8A91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524-CB17-4DCB-AB87-EEE15129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897-6233-4BD7-8BC1-20EBBAC9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659-5799-4A8B-BF1D-B4F95124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3B6-BCB4-46D7-BA6C-529307FA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26BD-8C9C-4386-ABC2-EFC64CE09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leigh, Joelle ,and Co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8120" y="762120"/>
            <a:ext cx="2971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okerman"/>
              </a:rPr>
              <a:t>Climat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ly flat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ich black soil good for farming- makes abund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er growing season than the res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mperature is mode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nd in the south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small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52680" y="533520"/>
            <a:ext cx="28195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epp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aspects about the steppe clim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re is not a lot of rain the wheat crops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a good hunting area because of small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not predict if they will have a rainy or dry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armers will have trouble choosing what crops to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62720" y="838080"/>
            <a:ext cx="1143000" cy="74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90920" y="914400"/>
            <a:ext cx="114300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 and rolling treeless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top few inches of ground thaw out in the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manently frozen layers of soil are called permafr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ndra covers 40 percen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ndra climate is located in northern Russia ( Siberi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14800" y="685800"/>
            <a:ext cx="1305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undr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543960" cy="6743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Biggest climate zone i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ew people live in subarctic because it has very cold and bitter w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Temperatures only rise above freezing in the su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Located mostly everywhere in Russia except for Southwes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29000" y="533520"/>
            <a:ext cx="24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Subarct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land Europe, Asia or North America have this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ng, cold, and snowy winters-things freeze, short growing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ort but very hot su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arge grasslands and deciduous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362320" y="457200"/>
            <a:ext cx="459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umid continent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bad things about the climate in Russia and how the Russian people adjust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regions there subsoil is covered by snow six months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w the climate has helped Russia i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ussians have used their harsh winters to make their enemies retreat from invad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one situation the French tried to invade them and the Russians led them into Moscow leaving them with no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other time the German army tried invading Russia. They were in sight  of Moscow when winter hit. Everything froze (including them) and they re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for watching our slide 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43:18Z</dcterms:created>
  <dc:creator> </dc:creator>
  <dc:description/>
  <dc:language>en-US</dc:language>
  <cp:lastModifiedBy> </cp:lastModifiedBy>
  <dcterms:modified xsi:type="dcterms:W3CDTF">2010-12-20T16:06:32Z</dcterms:modified>
  <cp:revision>6</cp:revision>
  <dc:subject/>
  <dc:title>Climate</dc:title>
</cp:coreProperties>
</file>